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30.png" ContentType="image/png"/>
  <Override PartName="/ppt/media/image23.png" ContentType="image/png"/>
  <Override PartName="/ppt/media/image13.jpeg" ContentType="image/jpeg"/>
  <Override PartName="/ppt/media/image9.jpeg" ContentType="image/jpeg"/>
  <Override PartName="/ppt/media/image12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-based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hat extent did VACET make th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we bring to the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348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4920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776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1348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4920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7760" y="977400"/>
            <a:ext cx="1104912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4920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776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71348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4920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77760" y="977400"/>
            <a:ext cx="1104912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4920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7776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71348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4920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977760" y="977400"/>
            <a:ext cx="1104912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44920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97776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71348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44920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77760" y="977400"/>
            <a:ext cx="1104912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7760" y="977400"/>
            <a:ext cx="1104912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1348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44920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7776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71348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44920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77760" y="977400"/>
            <a:ext cx="11049120" cy="55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1348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449200" y="238716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7776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71348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449200" y="6234480"/>
            <a:ext cx="35575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480" y="623448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480" y="2387160"/>
            <a:ext cx="53917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7760" y="6234480"/>
            <a:ext cx="11049120" cy="35132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7760" y="3251160"/>
            <a:ext cx="1104912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55880" y="5524200"/>
            <a:ext cx="9105840" cy="4228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08720" tIns="50760" bIns="50760" anchor="t">
            <a:normAutofit fontScale="87000"/>
          </a:bodyPr>
          <a:p>
            <a:pPr marL="54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540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540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540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540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540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540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28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50760" rIns="108720" tIns="50760" bIns="50760" anchor="ctr">
            <a:no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3184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3" marL="1589040" indent="-22860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4" marL="2046240" indent="-22860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5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6" marL="204624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9.jpeg"/><Relationship Id="rId15" Type="http://schemas.openxmlformats.org/officeDocument/2006/relationships/image" Target="../media/image7.jpeg"/><Relationship Id="rId16" Type="http://schemas.openxmlformats.org/officeDocument/2006/relationships/image" Target="../media/image30.png"/><Relationship Id="rId17" Type="http://schemas.openxmlformats.org/officeDocument/2006/relationships/image" Target="../media/image27.pn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image" Target="../media/image10.jpeg"/><Relationship Id="rId12" Type="http://schemas.openxmlformats.org/officeDocument/2006/relationships/image" Target="../media/image13.jpeg"/><Relationship Id="rId13" Type="http://schemas.openxmlformats.org/officeDocument/2006/relationships/image" Target="../media/image14.png"/><Relationship Id="rId14" Type="http://schemas.openxmlformats.org/officeDocument/2006/relationships/image" Target="../media/image15.jpeg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13004640" cy="7010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44920" y="8889840"/>
            <a:ext cx="4140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b5b1ab"/>
                </a:solidFill>
                <a:latin typeface="Times New Roman"/>
                <a:ea typeface="Times New Roman"/>
              </a:rPr>
              <a:t>www.vacet.or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790640" y="6172200"/>
            <a:ext cx="9105840" cy="3581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572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ockville, M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572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28 April 2009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606840"/>
            <a:ext cx="10096560" cy="2108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  <a:ea typeface="Arial"/>
              </a:rPr>
              <a:t>Answers to Review Panel Question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3200" cy="26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15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1264760" y="9158400"/>
            <a:ext cx="1652760" cy="500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14480" y="9198000"/>
            <a:ext cx="2387520" cy="4460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82828"/>
                </a:solidFill>
                <a:latin typeface="Arial"/>
              </a:rPr>
              <a:t>How does basic research activity focus on petascale issues?</a:t>
            </a:r>
            <a:endParaRPr b="0" lang="en-US" sz="3700" spc="-1" strike="noStrike">
              <a:solidFill>
                <a:srgbClr val="28282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3800" spc="-1" strike="noStrike" u="sng">
                <a:solidFill>
                  <a:srgbClr val="ffffff"/>
                </a:solidFill>
                <a:uFillTx/>
                <a:latin typeface="Arial Italic"/>
                <a:ea typeface="Arial Italic"/>
              </a:rPr>
              <a:t>hav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basic research at the petascal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treamlines, Pathlines, etc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astBit – QDV, optimized I/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uvok (V.R. in a distributed memory fashion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uture: multiresolution methods, in-sit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focus on our stakeholder nee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etascale comes naturally with this effort as customers hit the petascal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1810880" y="112680"/>
            <a:ext cx="978120" cy="7254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What’s the process for transitioning research into software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859200" y="2176560"/>
            <a:ext cx="5818320" cy="1873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4094280" y="3473280"/>
            <a:ext cx="7907400" cy="547560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0"/>
            <a:ext cx="8997840" cy="5932440"/>
            <a:chOff x="0" y="0"/>
            <a:chExt cx="8997840" cy="5932440"/>
          </a:xfrm>
        </p:grpSpPr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3181320" y="0"/>
              <a:ext cx="5816520" cy="34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0" y="623880"/>
              <a:ext cx="4105440" cy="5308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6120" y="977400"/>
            <a:ext cx="1149336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What’s the process for transitioning research into software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273400"/>
            <a:ext cx="3162240" cy="1536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is bad at streamlines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37040" y="2819520"/>
            <a:ext cx="761760" cy="431640"/>
          </a:xfrm>
          <a:prstGeom prst="rightArrow">
            <a:avLst>
              <a:gd name="adj1" fmla="val 50000"/>
              <a:gd name="adj2" fmla="val 35296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8800" y="2273400"/>
            <a:ext cx="3924360" cy="2019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parallel streamlines” / “Wow!  Parallel streamlines is hard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12080" y="2819520"/>
            <a:ext cx="762120" cy="431640"/>
          </a:xfrm>
          <a:prstGeom prst="rightArrow">
            <a:avLst>
              <a:gd name="adj1" fmla="val 50000"/>
              <a:gd name="adj2" fmla="val 35313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0" y="0"/>
            <a:ext cx="2863800" cy="4108320"/>
            <a:chOff x="0" y="0"/>
            <a:chExt cx="2863800" cy="4108320"/>
          </a:xfrm>
        </p:grpSpPr>
        <p:pic>
          <p:nvPicPr>
            <p:cNvPr id="31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2863800" cy="41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5"/>
            <a:stretch/>
          </p:blipFill>
          <p:spPr>
            <a:xfrm>
              <a:off x="0" y="3141720"/>
              <a:ext cx="11923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"/>
          <p:cNvGrpSpPr/>
          <p:nvPr/>
        </p:nvGrpSpPr>
        <p:grpSpPr>
          <a:xfrm>
            <a:off x="546120" y="1181160"/>
            <a:ext cx="8661240" cy="6514920"/>
            <a:chOff x="546120" y="1181160"/>
            <a:chExt cx="8661240" cy="6514920"/>
          </a:xfrm>
        </p:grpSpPr>
        <p:grpSp>
          <p:nvGrpSpPr>
            <p:cNvPr id="315" name=""/>
            <p:cNvGrpSpPr/>
            <p:nvPr/>
          </p:nvGrpSpPr>
          <p:grpSpPr>
            <a:xfrm>
              <a:off x="3683160" y="5207040"/>
              <a:ext cx="5524200" cy="2489040"/>
              <a:chOff x="3683160" y="5207040"/>
              <a:chExt cx="5524200" cy="2489040"/>
            </a:xfrm>
          </p:grpSpPr>
          <p:sp>
            <p:nvSpPr>
              <p:cNvPr id="316" name=""/>
              <p:cNvSpPr/>
              <p:nvPr/>
            </p:nvSpPr>
            <p:spPr>
              <a:xfrm>
                <a:off x="3683160" y="5207040"/>
                <a:ext cx="5524200" cy="248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80808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83160" y="5207040"/>
                <a:ext cx="552420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ployment effort in VisIt by SEG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8" name="" descr=""/>
            <p:cNvPicPr/>
            <p:nvPr/>
          </p:nvPicPr>
          <p:blipFill>
            <a:blip r:embed="rId6"/>
            <a:stretch/>
          </p:blipFill>
          <p:spPr>
            <a:xfrm>
              <a:off x="2171880" y="118116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7"/>
            <a:srcRect l="0" t="0" r="87591" b="0"/>
            <a:stretch/>
          </p:blipFill>
          <p:spPr>
            <a:xfrm>
              <a:off x="2882880" y="1841400"/>
              <a:ext cx="3999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8"/>
            <a:srcRect l="0" t="5555" r="0" b="2048"/>
            <a:stretch/>
          </p:blipFill>
          <p:spPr>
            <a:xfrm>
              <a:off x="546120" y="118116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9"/>
            <a:stretch/>
          </p:blipFill>
          <p:spPr>
            <a:xfrm>
              <a:off x="1308240" y="1841400"/>
              <a:ext cx="3952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0"/>
            <a:srcRect l="0" t="8007" r="0" b="19997"/>
            <a:stretch/>
          </p:blipFill>
          <p:spPr>
            <a:xfrm>
              <a:off x="3797280" y="118116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1"/>
            <a:srcRect l="0" t="0" r="84731" b="0"/>
            <a:stretch/>
          </p:blipFill>
          <p:spPr>
            <a:xfrm>
              <a:off x="4444920" y="1943280"/>
              <a:ext cx="546120" cy="36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 rot="10800000">
            <a:off x="3365640" y="4660560"/>
            <a:ext cx="5356080" cy="431640"/>
          </a:xfrm>
          <a:prstGeom prst="rightArrow">
            <a:avLst>
              <a:gd name="adj1" fmla="val 50000"/>
              <a:gd name="adj2" fmla="val 35330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0" y="0"/>
            <a:ext cx="13004280" cy="9537120"/>
            <a:chOff x="0" y="0"/>
            <a:chExt cx="13004280" cy="9537120"/>
          </a:xfrm>
        </p:grpSpPr>
        <p:grpSp>
          <p:nvGrpSpPr>
            <p:cNvPr id="326" name=""/>
            <p:cNvGrpSpPr/>
            <p:nvPr/>
          </p:nvGrpSpPr>
          <p:grpSpPr>
            <a:xfrm>
              <a:off x="0" y="0"/>
              <a:ext cx="13004280" cy="9537120"/>
              <a:chOff x="0" y="0"/>
              <a:chExt cx="13004280" cy="9537120"/>
            </a:xfrm>
          </p:grpSpPr>
          <p:pic>
            <p:nvPicPr>
              <p:cNvPr id="32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308560" y="0"/>
                <a:ext cx="4330800" cy="362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13"/>
              <a:srcRect l="0" t="16667" r="40719" b="70001"/>
              <a:stretch/>
            </p:blipFill>
            <p:spPr>
              <a:xfrm>
                <a:off x="0" y="2387520"/>
                <a:ext cx="6919920" cy="1295640"/>
              </a:xfrm>
              <a:prstGeom prst="rect">
                <a:avLst/>
              </a:prstGeom>
              <a:ln w="38160">
                <a:solidFill>
                  <a:srgbClr val="000000"/>
                </a:solidFill>
                <a:miter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9583200" y="5854680"/>
                <a:ext cx="3421080" cy="5238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  <a:effectLst>
                <a:outerShdw dist="2556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11487240" y="6378480"/>
                <a:ext cx="1517040" cy="315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5269320" y="6378480"/>
                <a:ext cx="4313160" cy="1571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65280" y="5854680"/>
                <a:ext cx="6351480" cy="211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 flipV="1">
              <a:off x="10298880" y="6501960"/>
              <a:ext cx="1193400" cy="1739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16000" y="1727280"/>
            <a:ext cx="12788640" cy="3695400"/>
            <a:chOff x="216000" y="1727280"/>
            <a:chExt cx="12788640" cy="3695400"/>
          </a:xfrm>
        </p:grpSpPr>
        <p:grpSp>
          <p:nvGrpSpPr>
            <p:cNvPr id="335" name=""/>
            <p:cNvGrpSpPr/>
            <p:nvPr/>
          </p:nvGrpSpPr>
          <p:grpSpPr>
            <a:xfrm>
              <a:off x="8775720" y="2387520"/>
              <a:ext cx="4228920" cy="3035160"/>
              <a:chOff x="8775720" y="2387520"/>
              <a:chExt cx="4228920" cy="3035160"/>
            </a:xfrm>
          </p:grpSpPr>
          <p:sp>
            <p:nvSpPr>
              <p:cNvPr id="336" name=""/>
              <p:cNvSpPr/>
              <p:nvPr/>
            </p:nvSpPr>
            <p:spPr>
              <a:xfrm>
                <a:off x="8775720" y="2387520"/>
                <a:ext cx="4228920" cy="303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808080">
                    <a:alpha val="4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775720" y="2387520"/>
                <a:ext cx="4228920" cy="15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57960" tIns="0" bIns="0" anchor="t">
                <a:noAutofit/>
              </a:bodyPr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esearch effort: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5724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fficient parallel streamline generation</a:t>
                </a:r>
                <a:endParaRPr b="0" lang="en-US" sz="3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8" name="" descr=""/>
            <p:cNvPicPr/>
            <p:nvPr/>
          </p:nvPicPr>
          <p:blipFill>
            <a:blip r:embed="rId14"/>
            <a:srcRect l="0" t="8574" r="0" b="5711"/>
            <a:stretch/>
          </p:blipFill>
          <p:spPr>
            <a:xfrm>
              <a:off x="216000" y="1727280"/>
              <a:ext cx="10396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5"/>
            <a:srcRect l="0" t="2600" r="0" b="0"/>
            <a:stretch/>
          </p:blipFill>
          <p:spPr>
            <a:xfrm>
              <a:off x="2933640" y="1727280"/>
              <a:ext cx="104004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6"/>
            <a:stretch/>
          </p:blipFill>
          <p:spPr>
            <a:xfrm>
              <a:off x="216000" y="2603520"/>
              <a:ext cx="115560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7"/>
            <a:stretch/>
          </p:blipFill>
          <p:spPr>
            <a:xfrm>
              <a:off x="1562040" y="1727280"/>
              <a:ext cx="104148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18"/>
            <a:srcRect l="0" t="0" r="87591" b="0"/>
            <a:stretch/>
          </p:blipFill>
          <p:spPr>
            <a:xfrm>
              <a:off x="3683160" y="2374920"/>
              <a:ext cx="39816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9"/>
            <a:srcRect l="0" t="0" r="87591" b="0"/>
            <a:stretch/>
          </p:blipFill>
          <p:spPr>
            <a:xfrm>
              <a:off x="2387520" y="2374920"/>
              <a:ext cx="39852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"/>
          <p:cNvSpPr/>
          <p:nvPr/>
        </p:nvSpPr>
        <p:spPr>
          <a:xfrm rot="8640000">
            <a:off x="9193320" y="5375160"/>
            <a:ext cx="1473120" cy="432000"/>
          </a:xfrm>
          <a:prstGeom prst="rightArrow">
            <a:avLst>
              <a:gd name="adj1" fmla="val 50000"/>
              <a:gd name="adj2" fmla="val 35252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d4359"/>
                </a:solidFill>
                <a:latin typeface="Arial"/>
              </a:rPr>
              <a:t>Relationship with IUSV</a:t>
            </a:r>
            <a:endParaRPr b="0" lang="en-US" sz="3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/collaborative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PU bin-hash index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tributed memory GPU raytrac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LI integration with VisIt (distributed memory query-driven visualization applic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mporal pattern matching using a textual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orkshops: SC (speakers and co-chairs), Feature Extraction and Tracking 200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cucci/Ma: large scale combustion data analys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source of technology for use in VACET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ience Application Partnership is the formal mechanism for officially enabling such an activ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d4359"/>
                </a:solidFill>
                <a:latin typeface="Arial"/>
              </a:rPr>
              <a:t>Timelines for Future Development and Deployment – What are Milestones</a:t>
            </a:r>
            <a:endParaRPr b="0" lang="en-US" sz="3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e attached MS Word document (6 pages)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Does your plan support the future sustainability of VisIt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77760" y="2387520"/>
            <a:ext cx="10731600" cy="7315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duction software: bug tracking, regression testing, regular rele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rough our efforts, VisIt now feels much more like an open source project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ransitioned software repository from being “trapped at LLNL” to publicly accessi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25 developers with write access from 9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ublic mailing lists, archived and searchable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~300 subscribers, get ~300 posts per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iki pages on usage and development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559720"/>
            <a:ext cx="13004640" cy="1193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55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24691" t="14644" r="24200" b="21715"/>
          <a:stretch/>
        </p:blipFill>
        <p:spPr>
          <a:xfrm>
            <a:off x="10083960" y="8599320"/>
            <a:ext cx="1039680" cy="1038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rcRect l="0" t="2608" r="0" b="0"/>
          <a:stretch/>
        </p:blipFill>
        <p:spPr>
          <a:xfrm>
            <a:off x="5119560" y="86122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rcRect l="0" t="0" r="87591" b="0"/>
          <a:stretch/>
        </p:blipFill>
        <p:spPr>
          <a:xfrm>
            <a:off x="5878440" y="9263160"/>
            <a:ext cx="399960" cy="4824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rcRect l="0" t="5555" r="0" b="2048"/>
          <a:stretch/>
        </p:blipFill>
        <p:spPr>
          <a:xfrm>
            <a:off x="3494160" y="86122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8"/>
          <a:stretch/>
        </p:blipFill>
        <p:spPr>
          <a:xfrm>
            <a:off x="4253040" y="9263160"/>
            <a:ext cx="393480" cy="431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9"/>
          <a:srcRect l="18898" t="0" r="16594" b="33333"/>
          <a:stretch/>
        </p:blipFill>
        <p:spPr>
          <a:xfrm>
            <a:off x="6756480" y="8599320"/>
            <a:ext cx="1039680" cy="10382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0"/>
          <a:srcRect l="0" t="0" r="70918" b="0"/>
          <a:stretch/>
        </p:blipFill>
        <p:spPr>
          <a:xfrm>
            <a:off x="7581960" y="9312120"/>
            <a:ext cx="431640" cy="405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1"/>
          <a:stretch/>
        </p:blipFill>
        <p:spPr>
          <a:xfrm>
            <a:off x="10937880" y="9269280"/>
            <a:ext cx="393840" cy="432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2"/>
          <a:srcRect l="0" t="7993" r="0" b="19997"/>
          <a:stretch/>
        </p:blipFill>
        <p:spPr>
          <a:xfrm>
            <a:off x="8445600" y="8599320"/>
            <a:ext cx="1041480" cy="10382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3"/>
          <a:srcRect l="0" t="0" r="84613" b="0"/>
          <a:stretch/>
        </p:blipFill>
        <p:spPr>
          <a:xfrm>
            <a:off x="9312120" y="9321840"/>
            <a:ext cx="546120" cy="366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4"/>
          <a:srcRect l="31902" t="31944" r="17191" b="17163"/>
          <a:stretch/>
        </p:blipFill>
        <p:spPr>
          <a:xfrm>
            <a:off x="1841400" y="8620200"/>
            <a:ext cx="1040040" cy="10396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5"/>
          <a:srcRect l="0" t="0" r="87591" b="0"/>
          <a:stretch/>
        </p:blipFill>
        <p:spPr>
          <a:xfrm>
            <a:off x="2633760" y="9269280"/>
            <a:ext cx="39996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Does your plan support the future sustainability of VisIt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7760" y="2387520"/>
            <a:ext cx="10731600" cy="7315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It has two focal points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d user too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ur activities are playing to this bas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Working on customizability (end user tool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y big data/performance enhancemen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rcRect l="0" t="13334" r="0" b="13350"/>
          <a:stretch/>
        </p:blipFill>
        <p:spPr>
          <a:xfrm>
            <a:off x="0" y="6502320"/>
            <a:ext cx="7797960" cy="3467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>
            <a:off x="4991040" y="5684760"/>
            <a:ext cx="801360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Are you on a path to a stable open source community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hort answer: we think y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Long answer: projects like this require ongoing funding.  Chris will address this more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1810880" y="112680"/>
            <a:ext cx="978120" cy="725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Are you on a path to a stable open source community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pen source development costs money, all costs incurred in maintaining a project fall into one of two broad categories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frastructure costs: the cost of making the project and its outputs availabl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upport costs: the cost of supporting users and contributors, including the writing and maintenance of document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Development costs: the cost of maintaining the infrastructure, the softw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8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Governance costs: the cost of managing and protecting the IP in the softw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8264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urier New Bold"/>
                <a:ea typeface="Courier New Bold"/>
              </a:rPr>
              <a:t>http://wiki.oss-watch.ac.uk/Cost_Of_Open_Source_Develop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What is the process for submitting contributions to VisIt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16000" y="2489040"/>
            <a:ext cx="12357000" cy="579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7760" y="977400"/>
            <a:ext cx="110491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What is the process for submitting contributions to VisIt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31640" y="2705040"/>
            <a:ext cx="1202724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965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10033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9867960" y="8734320"/>
            <a:ext cx="3060720" cy="924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14480" y="8750160"/>
            <a:ext cx="4762440" cy="8938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5480" y="977400"/>
            <a:ext cx="11963520" cy="119412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ctr">
            <a:no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d4359"/>
                </a:solidFill>
                <a:latin typeface="Arial"/>
              </a:rPr>
              <a:t>How does VisIt perform compared to other tools, size of problem, interactivity, unique features?</a:t>
            </a:r>
            <a:endParaRPr b="0" lang="en-US" sz="37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7760" y="2387160"/>
            <a:ext cx="11049120" cy="73659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2d4359">
                <a:alpha val="75000"/>
              </a:srgbClr>
            </a:outerShdw>
          </a:effectLst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 think well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ize of problem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re looking at the biggest data sets in the world. (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ecdot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98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CC, Argonne, LAN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teractivity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amount of effort to get over “VTK hum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dering has been less of a focus (ICE-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ct-based mechanism is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Unique features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s Bethel</dc:creator>
  <dc:description/>
  <dc:language>en-US</dc:language>
  <cp:lastModifiedBy/>
  <cp:revision>0</cp:revision>
  <dc:subject/>
  <dc:title>PowerPoint Presentation</dc:title>
</cp:coreProperties>
</file>